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9454-DE0A-4EB4-BEE4-39C69C2399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36FB-38F1-471A-91E8-99F3E068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B895-3EC1-4EDB-A95A-82871722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170C-40F8-4774-9EF0-8E7548C35E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DAA5-0AA2-423A-A0A0-CED499F8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6FF8-4544-469F-B669-1A2222BC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CA8C4-50B8-4AA6-AB71-69511247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FCE1-E88A-4B25-9555-750B080D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31A04-6701-4F3B-A564-363FDBF1F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C566-C698-48E1-85E8-58E4334A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C9C7-E367-435A-B05C-C3264452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BD03-67E3-4829-9938-1C4BBB8D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556A-BF05-4279-BD10-5D90A95E87F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421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 康复治疗技术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言语治疗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6300720" y="558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王海丽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  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各种手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言语障碍的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针对性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言语治疗的原则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由评定设定训练项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订科学的训练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及时强化与反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言语康复的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医者对言语障碍的认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好的医患关系直接影响言语的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心理状况和认知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8600" y="1413000"/>
            <a:ext cx="861084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统方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听理解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口语表达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阅读理解及朗读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书写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28360" y="1371600"/>
            <a:ext cx="80866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失语症的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实用法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功能性交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泛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15640" y="137124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构音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舌唇运动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音的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呼吸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言语速度和辨音的训练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628280"/>
            <a:ext cx="861048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吞咽障碍的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治疗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把食物引入口，加强吞咽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取食物的顺序一般是软食、半固体、固体、液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间接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吞咽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4-27T07:24:31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